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603FF-8D61-4BA8-8D67-6DAB43ACBEE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 genitori non sono presenti per ragioni contingenti (specificità del caso degli apprendisti), ma possono essere considerat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mportanza del coinvolgimento delle varie categorie di attori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iù punti di vis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=motiv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battito e critica costrutti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imo stadio: piccoli gruppi di 5 componenti ciascuno (3 di apprendisti, 1 di ex apprendisti, 3 di Ins. CG, 3 di Ins. CP, 1 di maestri di tirocinio) rispondono alla domanda « quali aspetti/fattori rendono buono un insegnamento di cultura generale? 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ategorizzazione da parte dei ricercato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econdo stadio in gruppi omogenei (i piccoli gruppi di 5 vengono riuniti): verifica che la categorizzazione corrisponda a quanto espresso dai gruppi di atto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rzo stadio: riunione plenaria con tutti gli attori. Discussione e confronto per giungere ad una serie di indicatori accettati da tutt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i tratta di un approccio sviluppato da John MacBeath nel suo libro « Schools must speak for themselves » (1999), nel quale egli pone l’accento sul miglioramento continuo nelle scuole. In tale opera il coinvolgimento degli attori è una condizione irrinunciabile per il migliorament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imo stadio: gruppi misti definiscono l’importanza e la qualità degli aspetti individua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Un gruppo ristretto, rappresentante tutte le categorie di attori, analizza e sceglie gli aspetti da migliorare e, con la consulenza dell’amico critico, individua strumenti e procedure per rilevare e migliorare la qualità del fattore individuat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l gruppo di rappresentanti egli attori operanti nell’istituto scolastico conducono il processo di migliorament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cc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Sostituisce i programmi degli anni sessan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hi insegna esami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ocietà: diritto, politica, economia e cultu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ingua e comunicazione : competenze personali e sociali, competenze metodologiche e competenze linguistiche e di comunicazi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 seguito del mandato di valutazione dell’introduzione del </a:t>
            </a:r>
            <a:r>
              <a:rPr b="1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iano quadro di studio (PQ)</a:t>
            </a: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nelle scuole professionali, industriali ed artigianali nel 1996, l’UFFT ha constatato che </a:t>
            </a:r>
            <a:r>
              <a:rPr b="1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l mandato di base non dava informazioni né sulle conoscenze</a:t>
            </a: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é sulle competenze</a:t>
            </a: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he gli apprendisti dovevano acquisir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o strumento deve essere applicabile su scala naziona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 Svizzera, nel settore della FP le esperienze di gestione della qualità ad esempio mediante norme ISO sono piuttosto comuni…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fr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 solo nella Svizzera tedesca vi sono un certo numero di esperienze di autovalutazione da parte degli istituti (aspetti amministrativi e pedagogici)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concetto di regolazione implica un coinvolgimento attivo e una compartecipazione degli attori presenti nella realtà scolas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14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e l’input (necessità dell’autovalutazione) viene dall’autorità, la realizzazione del processo (scelta dei campi da prendere in esame, criteri dell’analisi, scelta ed elaborazione degli strumenti) è di piena competenza dell’istituto scolastico e degli attori che agiscono al suo intern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 questo concetto (ricerca-azione) il ruolo del ricercatore à quello di risorsa, consulente, o, con le parole di John MacBeath, quello di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amico critico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gli deve essere riconosciuto dagli attori come figura credibile ed autorevole, in grado di proporre punti di vista alternativi nel contesto di un approccio criticamente costruttiv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 questo concetto (ricerca-azione) il ruolo del ricercatore à quello di risorsa, consulente, o, con le parole di John MacBeath, quello di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amico critico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gli deve essere riconosciuto dagli attori come figura credibile ed autorevole, in grado di proporre punti di vista alternativi nel contesto di un approccio criticamente costruttiv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tradizione della ricerca-azione, a partire da Lewin, ha un ruolo importante all’interno delle scienze umane e sociali.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Questa impostazione permette di superare la dicotomia mondo scientifico/ricerca versus mondo scolastico/insegnament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er ottenere un miglioramento effettivo, non si può prescindere da una partecipazione attiva di chi opera in un certo contes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’amico critico è una figura fondamentale se non ci si vuole limitare alla raccolta di opinion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Egli è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mico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, nel senso che si pone dalla parte dell’istituto scolastico, ma allo stesso tempo esercita una funzione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ritica</a:t>
            </a:r>
            <a:r>
              <a:rPr b="0" i="1" lang="fr-FR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ndendo attenti gli attori a tutti quegli aspetti che a prima vista non emergono in modo chiaro, e svolgendo la funzione di mediatore-negoziatore nel caso emergano divergenz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Tale funzione può essere svolta, come nel caso presente, da un ricercatore, ma non solo: l’importante è che si tratti di una figura esterna alla realtà scolastica, ma accettata da ess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19000" y="770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1 : Questione di fondo: percezione delle variabil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2 : Qualità attuale della C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3 : Metodi e tecniche di indag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4 : Miglioram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5 : Situazione della cultura in un quadro allarga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FA5-322E-4467-8FF5-CE16D53C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775-015B-4CEF-9C35-27477DC0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ED5-7E25-4EB5-A025-9EF0740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C1D-BDF5-4B25-8A59-575BE26E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8D6-3C18-46D8-87B6-C840502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A6C-A6DF-4B48-A4BE-711D1B67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40C-F605-42A6-8526-6F234C0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EE9-BBCD-49E9-B8EE-7CEB1A05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D04D-9C04-454C-8C1C-51217EA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BD0-78C4-4D81-BB19-FE490161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BE5-7DAD-47FC-AAF3-0867BC7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AC8-EE61-42AF-BFBF-512EFD8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E1C-2EE7-485C-8DE7-F208BFC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F35C-0A6B-41F8-B7A3-1222900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F6C2-41A3-470B-B4C0-61DF227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D403-86F0-4D6C-B6B6-ECD5C827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519-028D-483C-BB4D-A90A6D1B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809-D108-482F-9AD1-8D1E66F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11F-030E-4343-8640-A4FD6E6D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331-812A-4E4B-9E1D-A1BE43F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894-27B4-4A5D-B82B-34FCC288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983-91FB-4438-A376-C815D13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44E-A208-4677-AF5A-8790135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460-1327-4558-B59F-B1249C0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5E0-2057-4D3D-978E-9B177114CAD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679-E39B-4294-8AF9-845242141026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66"/>
                </a:solidFill>
                <a:latin typeface="Century Gothic"/>
              </a:rPr>
              <a:t>DAAP: una metodologia per l’autovalutazione nelle scuole professional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52120" y="36576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din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Giovedì 16 gennaio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CH" sz="2400" spc="-1" strike="noStrike">
                <a:solidFill>
                  <a:srgbClr val="000000"/>
                </a:solidFill>
                <a:latin typeface="Garamond"/>
              </a:rPr>
              <a:t>Giorgio Ostinel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791320"/>
            <a:ext cx="6400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fficio studi e ricerche, Dipartimento dell’educazione, della cultura e dello sport, Bellinzona, Svizz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Attori coinvol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Apprendi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Ex apprendisti diplomatisi negli anni prece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Insegnanti di cultura gene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Insegnanti dei rami tecnici e profess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Maestri di tiroci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48320" y="4314960"/>
            <a:ext cx="992160" cy="685800"/>
          </a:xfrm>
          <a:prstGeom prst="rect">
            <a:avLst/>
          </a:prstGeom>
          <a:solidFill>
            <a:srgbClr val="00ec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T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51160" y="4314960"/>
            <a:ext cx="962280" cy="685800"/>
          </a:xfrm>
          <a:prstGeom prst="rect">
            <a:avLst/>
          </a:prstGeom>
          <a:solidFill>
            <a:srgbClr val="67ff67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27080" y="4314960"/>
            <a:ext cx="6858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1600" y="885960"/>
            <a:ext cx="2192040" cy="427680"/>
          </a:xfrm>
          <a:prstGeom prst="rect">
            <a:avLst/>
          </a:prstGeom>
          <a:solidFill>
            <a:srgbClr val="297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Times New Roman"/>
              </a:rPr>
              <a:t>Svizzera roma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18480" y="885960"/>
            <a:ext cx="2035080" cy="427680"/>
          </a:xfrm>
          <a:prstGeom prst="rect">
            <a:avLst/>
          </a:prstGeom>
          <a:solidFill>
            <a:srgbClr val="577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Times New Roman"/>
              </a:rPr>
              <a:t>Svizzera tedes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18880" y="885960"/>
            <a:ext cx="2036880" cy="427680"/>
          </a:xfrm>
          <a:prstGeom prst="rect">
            <a:avLst/>
          </a:prstGeom>
          <a:solidFill>
            <a:srgbClr val="6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Times New Roman"/>
              </a:rPr>
              <a:t>Svizzera ital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52360" y="2647800"/>
            <a:ext cx="767160" cy="427680"/>
          </a:xfrm>
          <a:prstGeom prst="rect">
            <a:avLst/>
          </a:prstGeom>
          <a:solidFill>
            <a:srgbClr val="cc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0960" y="2800440"/>
            <a:ext cx="767160" cy="427680"/>
          </a:xfrm>
          <a:prstGeom prst="rect">
            <a:avLst/>
          </a:prstGeom>
          <a:solidFill>
            <a:srgbClr val="cc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9560" y="2952720"/>
            <a:ext cx="767160" cy="427680"/>
          </a:xfrm>
          <a:prstGeom prst="rect">
            <a:avLst/>
          </a:prstGeom>
          <a:solidFill>
            <a:srgbClr val="cc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83280" y="3255840"/>
            <a:ext cx="1102320" cy="427680"/>
          </a:xfrm>
          <a:prstGeom prst="rect">
            <a:avLst/>
          </a:prstGeom>
          <a:solidFill>
            <a:srgbClr val="a7ffa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Ex 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98640" y="2790720"/>
            <a:ext cx="1114560" cy="427680"/>
          </a:xfrm>
          <a:prstGeom prst="rect">
            <a:avLst/>
          </a:prstGeom>
          <a:solidFill>
            <a:srgbClr val="67ff6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7240" y="3019320"/>
            <a:ext cx="1114560" cy="427680"/>
          </a:xfrm>
          <a:prstGeom prst="rect">
            <a:avLst/>
          </a:prstGeom>
          <a:solidFill>
            <a:srgbClr val="67ff6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55840" y="3247920"/>
            <a:ext cx="1114560" cy="427680"/>
          </a:xfrm>
          <a:prstGeom prst="rect">
            <a:avLst/>
          </a:prstGeom>
          <a:solidFill>
            <a:srgbClr val="67ff6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50960" y="2867040"/>
            <a:ext cx="634680" cy="427680"/>
          </a:xfrm>
          <a:prstGeom prst="rect">
            <a:avLst/>
          </a:prstGeom>
          <a:solidFill>
            <a:srgbClr val="00c6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923840" y="2028960"/>
            <a:ext cx="2151000" cy="61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75200" y="2028960"/>
            <a:ext cx="297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55520" y="2028960"/>
            <a:ext cx="1219320" cy="11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75200" y="2028960"/>
            <a:ext cx="11430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5200" y="2028960"/>
            <a:ext cx="0" cy="75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22160" y="2790720"/>
            <a:ext cx="1199880" cy="427680"/>
          </a:xfrm>
          <a:prstGeom prst="rect">
            <a:avLst/>
          </a:prstGeom>
          <a:solidFill>
            <a:srgbClr val="00ec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T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50760" y="3019320"/>
            <a:ext cx="1130040" cy="427680"/>
          </a:xfrm>
          <a:prstGeom prst="rect">
            <a:avLst/>
          </a:prstGeom>
          <a:solidFill>
            <a:srgbClr val="00ec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Te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9360" y="3247920"/>
            <a:ext cx="1199880" cy="427680"/>
          </a:xfrm>
          <a:prstGeom prst="rect">
            <a:avLst/>
          </a:prstGeom>
          <a:solidFill>
            <a:srgbClr val="00ec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T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30956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5880" y="37051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370512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368460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27880" y="3303720"/>
            <a:ext cx="0" cy="12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50960" y="4543560"/>
            <a:ext cx="634680" cy="427680"/>
          </a:xfrm>
          <a:prstGeom prst="rect">
            <a:avLst/>
          </a:prstGeom>
          <a:solidFill>
            <a:srgbClr val="00c6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3280" y="4543560"/>
            <a:ext cx="1102320" cy="427680"/>
          </a:xfrm>
          <a:prstGeom prst="rect">
            <a:avLst/>
          </a:prstGeom>
          <a:solidFill>
            <a:srgbClr val="a7ffa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Ex 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5040" y="5762520"/>
            <a:ext cx="3105000" cy="76284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100000">
                <a:srgbClr val="e5ffe5"/>
              </a:gs>
            </a:gsLst>
            <a:lin ang="108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   Ex app.    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Tec.    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12880" y="5000760"/>
            <a:ext cx="28195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32400" y="50007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32400" y="500076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5880" y="5000760"/>
            <a:ext cx="16765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532400" y="5000760"/>
            <a:ext cx="25146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6840" y="1571760"/>
            <a:ext cx="674280" cy="427680"/>
          </a:xfrm>
          <a:prstGeom prst="rect">
            <a:avLst/>
          </a:prstGeom>
          <a:solidFill>
            <a:srgbClr val="297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Times New Roman"/>
              </a:rPr>
              <a:t>Sc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5080" y="1571760"/>
            <a:ext cx="674280" cy="427680"/>
          </a:xfrm>
          <a:prstGeom prst="rect">
            <a:avLst/>
          </a:prstGeom>
          <a:solidFill>
            <a:srgbClr val="297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Times New Roman"/>
              </a:rPr>
              <a:t>Sc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85840" y="1343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66720" y="1343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22360" y="1343160"/>
            <a:ext cx="1436400" cy="655920"/>
            <a:chOff x="6822360" y="1343160"/>
            <a:chExt cx="1436400" cy="655920"/>
          </a:xfrm>
        </p:grpSpPr>
        <p:sp>
          <p:nvSpPr>
            <p:cNvPr id="171" name=""/>
            <p:cNvSpPr/>
            <p:nvPr/>
          </p:nvSpPr>
          <p:spPr>
            <a:xfrm>
              <a:off x="7584480" y="1571400"/>
              <a:ext cx="674280" cy="427680"/>
            </a:xfrm>
            <a:prstGeom prst="rect">
              <a:avLst/>
            </a:prstGeom>
            <a:solidFill>
              <a:srgbClr val="6f9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c.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22360" y="1571400"/>
              <a:ext cx="674280" cy="427680"/>
            </a:xfrm>
            <a:prstGeom prst="rect">
              <a:avLst/>
            </a:prstGeom>
            <a:solidFill>
              <a:srgbClr val="6f9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c.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047000" y="13431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7880" y="1343160"/>
              <a:ext cx="381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50560" y="1343160"/>
            <a:ext cx="1436400" cy="655920"/>
            <a:chOff x="3850560" y="1343160"/>
            <a:chExt cx="1436400" cy="655920"/>
          </a:xfrm>
        </p:grpSpPr>
        <p:sp>
          <p:nvSpPr>
            <p:cNvPr id="176" name=""/>
            <p:cNvSpPr/>
            <p:nvPr/>
          </p:nvSpPr>
          <p:spPr>
            <a:xfrm>
              <a:off x="4612680" y="1571400"/>
              <a:ext cx="674280" cy="427680"/>
            </a:xfrm>
            <a:prstGeom prst="rect">
              <a:avLst/>
            </a:prstGeom>
            <a:solidFill>
              <a:srgbClr val="577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c.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1571400"/>
              <a:ext cx="674280" cy="427680"/>
            </a:xfrm>
            <a:prstGeom prst="rect">
              <a:avLst/>
            </a:prstGeom>
            <a:solidFill>
              <a:srgbClr val="577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c.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075200" y="13431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6080" y="1343160"/>
              <a:ext cx="381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59720" y="2932200"/>
            <a:ext cx="1523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Tutti si esprimo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nei grupp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93600" y="3857760"/>
            <a:ext cx="205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Categor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560" y="251604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560" y="416232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560" y="561024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08840" y="5762520"/>
            <a:ext cx="20955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Dibattito, definizione e accettazione indicato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59720" y="4619520"/>
            <a:ext cx="1444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Restituz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6200" y="4041720"/>
            <a:ext cx="3047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18320" y="4041720"/>
            <a:ext cx="27525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32400" y="41623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05240" y="93600"/>
            <a:ext cx="181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Times New Roman"/>
              </a:rPr>
              <a:t>Prima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18182" r="0" b="4134"/>
          <a:stretch/>
        </p:blipFill>
        <p:spPr>
          <a:xfrm>
            <a:off x="608040" y="2033640"/>
            <a:ext cx="958680" cy="55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0" t="18182" r="0" b="4134"/>
          <a:stretch/>
        </p:blipFill>
        <p:spPr>
          <a:xfrm>
            <a:off x="1521000" y="2033640"/>
            <a:ext cx="958680" cy="558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18182" r="0" b="4134"/>
          <a:stretch/>
        </p:blipFill>
        <p:spPr>
          <a:xfrm>
            <a:off x="6513480" y="2033640"/>
            <a:ext cx="959040" cy="55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rcRect l="0" t="18182" r="0" b="4134"/>
          <a:stretch/>
        </p:blipFill>
        <p:spPr>
          <a:xfrm>
            <a:off x="7427880" y="2033640"/>
            <a:ext cx="959040" cy="55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rcRect l="0" t="18182" r="0" b="4134"/>
          <a:stretch/>
        </p:blipFill>
        <p:spPr>
          <a:xfrm>
            <a:off x="4424400" y="2028960"/>
            <a:ext cx="958680" cy="55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7680" y="3255840"/>
            <a:ext cx="1747800" cy="427680"/>
          </a:xfrm>
          <a:prstGeom prst="rect">
            <a:avLst/>
          </a:prstGeom>
          <a:solidFill>
            <a:srgbClr val="cc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27360" y="3247920"/>
            <a:ext cx="1881360" cy="427680"/>
          </a:xfrm>
          <a:prstGeom prst="rect">
            <a:avLst/>
          </a:prstGeom>
          <a:solidFill>
            <a:srgbClr val="67ff67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Ins. CG e T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75280" y="3247920"/>
            <a:ext cx="1815840" cy="427680"/>
          </a:xfrm>
          <a:prstGeom prst="rect">
            <a:avLst/>
          </a:prstGeom>
          <a:solidFill>
            <a:srgbClr val="00c6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MT e Ex ap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599840" y="1886040"/>
            <a:ext cx="2903400" cy="13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05400" y="1886040"/>
            <a:ext cx="2922480" cy="136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32400" y="1886040"/>
            <a:ext cx="0" cy="136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3705120"/>
            <a:ext cx="2932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48240" y="37051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547880" y="3692520"/>
            <a:ext cx="28796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44920" y="4543560"/>
            <a:ext cx="3806280" cy="76284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100000">
                <a:srgbClr val="e5ffe5"/>
              </a:gs>
            </a:gsLst>
            <a:lin ang="108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1 App.   1 Ex app.    1 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1 Ins. Tec.    1 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07400" y="738360"/>
            <a:ext cx="2036880" cy="1138680"/>
            <a:chOff x="3407400" y="738360"/>
            <a:chExt cx="2036880" cy="1138680"/>
          </a:xfrm>
        </p:grpSpPr>
        <p:sp>
          <p:nvSpPr>
            <p:cNvPr id="207" name=""/>
            <p:cNvSpPr/>
            <p:nvPr/>
          </p:nvSpPr>
          <p:spPr>
            <a:xfrm>
              <a:off x="3407400" y="738360"/>
              <a:ext cx="2036880" cy="427680"/>
            </a:xfrm>
            <a:prstGeom prst="rect">
              <a:avLst/>
            </a:prstGeom>
            <a:solidFill>
              <a:srgbClr val="6f9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vizzera italia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7440" y="1449360"/>
              <a:ext cx="674280" cy="427680"/>
            </a:xfrm>
            <a:prstGeom prst="rect">
              <a:avLst/>
            </a:prstGeom>
            <a:solidFill>
              <a:srgbClr val="6f9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ffffff"/>
                  </a:solidFill>
                  <a:latin typeface="Times New Roman"/>
                </a:rPr>
                <a:t>Sc.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05400" y="11746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554960" y="3181320"/>
            <a:ext cx="1755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Definizione qualità e  importanza fatto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560" y="286704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560" y="416232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560" y="5610240"/>
            <a:ext cx="56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3560" y="4543560"/>
            <a:ext cx="2095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Scelta dei fattori/aspetti da migliorare e delle relative modalit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0240" y="93600"/>
            <a:ext cx="213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Times New Roman"/>
              </a:rPr>
              <a:t>Seconda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3160" y="5845320"/>
            <a:ext cx="4252680" cy="76284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100000">
                <a:srgbClr val="e5ffe5"/>
              </a:gs>
            </a:gsLst>
            <a:lin ang="108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1 App.   1 Ex app.    1 Ins. 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3366ff"/>
                </a:solidFill>
                <a:latin typeface="Times New Roman"/>
              </a:rPr>
              <a:t>1 Ins. Tec.    1 MT + Amico cri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8240" y="5315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83560" y="5845320"/>
            <a:ext cx="20952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Conduzione processo di migliora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39840" y="1828800"/>
            <a:ext cx="50230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alità pers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Qualità individ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Competenze tecn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9840" y="3019320"/>
            <a:ext cx="396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Clima di classe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Accoglie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Partecipazione degli allie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Qualità person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Cal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Categorie individ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2133720"/>
            <a:ext cx="39366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Apprendimento at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Attivit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Competenze linguist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Contenu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Risult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Lavoro di grupp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Legame con la realt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Legame con il modo del lav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Didat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Sostegno agli allie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Val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Categorie individ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47960" y="3276720"/>
            <a:ext cx="2868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Tempo e 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Tempo 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Riso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4320" y="4875120"/>
            <a:ext cx="36698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Organizzazione della cla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1954080"/>
            <a:ext cx="29275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Insegnante-allievo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Arial Narrow"/>
              </a:rPr>
              <a:t>Relazioni ester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Categorie individ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mportanza e qualit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Daap%20-%20Grafico%20importanza-qualità%20Me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9764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mportanza e qualità: apprendis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Daap%20-%20Grafico%20importanza-qualità%20Me" descr=""/>
          <p:cNvPicPr/>
          <p:nvPr/>
        </p:nvPicPr>
        <p:blipFill>
          <a:blip r:embed="rId1"/>
          <a:stretch/>
        </p:blipFill>
        <p:spPr>
          <a:xfrm>
            <a:off x="1150920" y="2057400"/>
            <a:ext cx="6888240" cy="449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mportanza e qualità: consonanz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Daap%20-%20Grafico%20consonanza%20importanza-qualità%20Me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553080" cy="4548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mportanza e qualità: dissonanz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aap%20-%20Grafico%20dissonanza%20importanza-qualità%20Me" descr=""/>
          <p:cNvPicPr/>
          <p:nvPr/>
        </p:nvPicPr>
        <p:blipFill>
          <a:blip r:embed="rId1"/>
          <a:stretch/>
        </p:blipFill>
        <p:spPr>
          <a:xfrm>
            <a:off x="1905120" y="1965240"/>
            <a:ext cx="6783120" cy="456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-160560"/>
            <a:ext cx="77929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600" spc="-1" strike="noStrike">
                <a:solidFill>
                  <a:srgbClr val="00cc66"/>
                </a:solidFill>
                <a:latin typeface="Century Gothic"/>
              </a:rPr>
              <a:t>La cultura generale nelle scuole professionali svizzere : il PQ</a:t>
            </a:r>
            <a:r>
              <a:rPr b="0" lang="it-CH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PQ: Programma quadro di studio per l’insegnamento della cultura genera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Corso settimanale di tre ore per gli apprendi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Autonomia delle scuole, che elaborano il loro piano di sede individuale (PS) e l’esame fina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Insegnamento interdisciplinare centrato su due campi: </a:t>
            </a:r>
            <a:r>
              <a:rPr b="1" i="1" lang="it-CH" sz="2400" spc="-1" strike="noStrike">
                <a:solidFill>
                  <a:srgbClr val="333399"/>
                </a:solidFill>
                <a:latin typeface="Century Gothic"/>
              </a:rPr>
              <a:t>Società </a:t>
            </a: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e </a:t>
            </a:r>
            <a:r>
              <a:rPr b="1" i="1" lang="it-CH" sz="2400" spc="-1" strike="noStrike">
                <a:solidFill>
                  <a:srgbClr val="333399"/>
                </a:solidFill>
                <a:latin typeface="Century Gothic"/>
              </a:rPr>
              <a:t>Lingua e comunica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Conclus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Il progetto DAAP sviluppa e propone uno strumento fondato sulla partecipazione attiva degli attori presenti in un certo ambito educ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Esso mira al miglioramento “sul campo” della qualità dell’offerta form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L’</a:t>
            </a:r>
            <a:r>
              <a:rPr b="1" i="1" lang="it-CH" sz="2400" spc="-1" strike="noStrike">
                <a:solidFill>
                  <a:srgbClr val="333399"/>
                </a:solidFill>
                <a:latin typeface="Century Gothic"/>
              </a:rPr>
              <a:t>amico critico</a:t>
            </a: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, senza imporre delle scelte, aiuta l’istituto scolastico nel processo di miglior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Lo scopo finale è quello di far sviluppare nelle scuole la cultura e l’abitudine al miglioramento continuo, mettendo a disposizione degli istituti una medodologia flessibile ma rigorosa, assieme ad appropriati stru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l mandato dell’UFFT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« I saperi e le competenze acquisiti dagli/dalle apprendisti/e nel senso previsto dal PQ devono pure essere oggetto di valutazione » (UFFT, 15.12.199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Visto il carattere innovativo del PQ, non esistevano al momento strumenti già sviluppati per una sua valutazi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Si decise quindi di creare uno strumento </a:t>
            </a:r>
            <a:r>
              <a:rPr b="1" i="1" lang="fr-CH" sz="2400" spc="-1" strike="noStrike">
                <a:solidFill>
                  <a:srgbClr val="333399"/>
                </a:solidFill>
                <a:latin typeface="Century Gothic"/>
              </a:rPr>
              <a:t>ad hoc</a:t>
            </a: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 per svolgere tale comp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56520" y="6262560"/>
            <a:ext cx="4659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Ufficio federale della formazione e della tecnolo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600" spc="-1" strike="noStrike">
                <a:solidFill>
                  <a:srgbClr val="00cc66"/>
                </a:solidFill>
                <a:latin typeface="Century Gothic"/>
              </a:rPr>
              <a:t>Caratteristiche e scopi dello strum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Applicabilità su scala naziona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Capacità di permettere alle scuole di verificare la qualità del loro insegnamento, per regolarlo, migliorarlo e verificarne l’accordo con il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Il suo scopo non è quello di introdurre saperi obbligatori o valutazioni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… </a:t>
            </a: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ma quello di  permettere agli insegnanti di verificare gli effetti sugli apprendisti del loro insegnamento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l progetto DAAP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811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A partire dalle esigenze espresse dall’UFFT esso fa proposte e suggestioni, ma non è prescrittivo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… </a:t>
            </a: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prospetta una procedura gene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… </a:t>
            </a: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dei campi d’anali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… </a:t>
            </a: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e certi strumen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Si tratta quindi di una metodolog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53640" y="6262560"/>
            <a:ext cx="4676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Dispositivo di autovalutazione e autoanalisi del P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Basi teoriche di DA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Il progetto si ispira alla corrente pedagogica dello </a:t>
            </a:r>
            <a:r>
              <a:rPr b="1" i="1" lang="fr-BE" sz="2400" spc="-1" strike="noStrike">
                <a:solidFill>
                  <a:srgbClr val="333399"/>
                </a:solidFill>
                <a:latin typeface="Century Gothic"/>
              </a:rPr>
              <a:t>School improvement</a:t>
            </a: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, e in particolare all’opera di John MacBe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… </a:t>
            </a: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la quale presta particolare attenzione all’aspetto della condivisione degli scopi e delle modalità del processo di autovalutazione da parte degli attori mediante un loro costante e fattivo coinvolgimen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DAAP fa riferimento alle esperienze messe a punto da MacBeath e dai suoi collaboratori in Gran Bretagna ed in Europa (</a:t>
            </a:r>
            <a:r>
              <a:rPr b="1" lang="it-IT" sz="2400" spc="-1" strike="noStrike">
                <a:solidFill>
                  <a:srgbClr val="333399"/>
                </a:solidFill>
                <a:latin typeface="Century Gothic"/>
                <a:ea typeface="Times New Roman"/>
              </a:rPr>
              <a:t>Progetto pilota europeo di autovalutazione della scuola - PPEA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Impostazione metodologica di DA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Il progetto si qualifica in modo evidente come ricerca-azi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Si tratta di un’impostazione in cui l’intervento del ricercatore si combina con azioni intraprese dagli attori in funzione di un miglioramento di certi aspetti/fattori ritenuti problematic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entury Gothic"/>
              </a:rPr>
              <a:t>Tale modalità permette in modo ideale di garantire il coinvolgimento degli attori, aspetto importante ai fini di una loro effettiva partecipazione motiv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L’amico critic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In questo concetto (ricerca-azione) il ricercatore deve profilarsi come risorsa, consulent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…</a:t>
            </a: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..o, con le parole di John MacBeath, come </a:t>
            </a:r>
            <a:r>
              <a:rPr b="1" i="1" lang="fr-CH" sz="2400" spc="-1" strike="noStrike">
                <a:solidFill>
                  <a:srgbClr val="333399"/>
                </a:solidFill>
                <a:latin typeface="Century Gothic"/>
              </a:rPr>
              <a:t>amico critico</a:t>
            </a: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Egli deve essere riconosciuto dagli attori come figura credibile ed autorevol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…</a:t>
            </a:r>
            <a:r>
              <a:rPr b="1" lang="fr-CH" sz="2400" spc="-1" strike="noStrike">
                <a:solidFill>
                  <a:srgbClr val="333399"/>
                </a:solidFill>
                <a:latin typeface="Century Gothic"/>
              </a:rPr>
              <a:t>. in grado di proporre punti di vista alternativi nel contesto di un approccio criticamente costruttivo.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cc66"/>
                </a:solidFill>
                <a:latin typeface="Century Gothic"/>
              </a:rPr>
              <a:t>Domande della ricer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4240" y="2209320"/>
            <a:ext cx="822960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Quali sono i fattori che caratterizzano un buon insegnamento di cultura generale (CG)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Quali sono la qualità e l’importanza di tali fattori all’interno dell’istituto scolastico preso in e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Quali sono le modalità/le tecniche attuali e possibili per un loro rileva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Quali sono le modalità/le tecniche attuali e possibili per un miglioramento della CG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333399"/>
                </a:solidFill>
                <a:latin typeface="Century Gothic"/>
              </a:rPr>
              <a:t>Qual è il contributo della CG alla qualità complessiva dell’offerta formativa proposta?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13:14:17Z</dcterms:created>
  <dc:creator>INFO &amp; SHOP</dc:creator>
  <dc:description/>
  <dc:language>en-US</dc:language>
  <cp:lastModifiedBy>Giorgio Ostinelli</cp:lastModifiedBy>
  <cp:lastPrinted>2002-06-04T06:18:55Z</cp:lastPrinted>
  <dcterms:modified xsi:type="dcterms:W3CDTF">2003-01-09T12:51:26Z</dcterms:modified>
  <cp:revision>367</cp:revision>
  <dc:subject/>
  <dc:title>DAASI - Dispositivo per l'analisi e l'autoanalisi d'istituto</dc:title>
</cp:coreProperties>
</file>